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17F-AB7F-47A6-8880-83345688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F47-E322-4E47-8DA3-FD29F69C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DF6E-7358-4412-BFC1-3CC69113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32424-FCB2-40F8-9B51-D8DDEA01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076EC-CC80-43C9-8141-DC0506D5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4BD44-AC3D-467C-9667-CCC5E563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BC87C-564C-45E9-A92A-E6110B6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93E23-8D4F-4D4F-93BD-52A9B37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5DD84-B3DA-48FD-93B2-D127EC90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E608A-18C6-4226-80CE-7A855D79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B4988-5FA6-4B79-853F-6DC6D301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BFB3D-E7D3-4A91-A1AA-C82246F3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298-C1F8-4CCF-8922-0BCFB49F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DBE84-7542-4782-A8CA-9632829B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9FBE3-489F-4EEB-A67B-A14852A4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D0212-CAC1-4F03-96AB-F86481BA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6E9F7-3934-4AA9-BB2C-1EF04C1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3558C-48F2-432A-A16D-FC88BD36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9573C-BCB5-4376-B21B-CC72960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6C665-281B-43EB-9F83-45B48EA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BA205-9592-4A84-980C-9D824F6F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8364-41A1-4C58-99C7-1102B996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4DF3D-8548-4978-A638-BBBB0356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844-FA18-4D70-A2C9-E10F1F0E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6A9ED-B9B9-48B4-85E8-E70715C3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41B4F-F1F9-4854-8BF0-F3B7BA62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6198-CE28-41B1-B618-00CD0EE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D5989-A741-480D-ABD4-7080E08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E6E1B-DCC2-4DA0-A0FF-FE6A6F70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39BA6-A8F6-4879-AC7B-B6D8ABC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023EB-EABE-4F0B-9077-9703C312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50E73-38B9-4037-90A8-5A5909B8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79183-1A6A-412E-8827-2D39C12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980C-EBEC-4335-A01A-188329B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10C1-C33D-4358-A81F-E42D7AF4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16F1-7846-435C-898B-6EAC141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D499A-F4C1-452D-9063-3FA403B0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89C74-76C2-48BC-A89A-1EC1A630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11E62-4247-40D2-86D4-1B70BC0E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492FF-D72F-47A8-8C17-1F5F62A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67D4-3940-4DEB-9F11-2BEBC4F1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F27C2-A2DE-48AB-9D9A-209F2043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CE552-0035-4BDD-A495-7236D87B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FA22E-66AC-4428-B953-6FCC415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30237-7194-4EDF-B399-15B8BB6B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1667-707C-407F-AA65-CBC5BD9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FAA53-7F67-4BF9-98CC-3D6C02B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45A7B-A7A0-4688-95EC-F978545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9B6EC-F1D9-4BEA-9A57-6A7180EC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96CAB-2BAF-4241-83A9-9528F13F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60521-192B-4C9B-990A-AC502BF5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5451F-480E-4710-B682-5B4AFCE0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9C947-6231-46F1-85A5-62177A62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711D4-0A32-482C-BE56-1AC564E1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98B83-19D0-4C28-A5A3-A1879D04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5EB6E-4BD6-47C8-B137-08012C9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62E4-2AF2-4C09-B827-36C091A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BECE0-9AAE-40D1-B2DB-FBD16D32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66B96-268B-451D-854C-796C4ED7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9D1EF-8E86-43AF-9054-73D65BB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2067C-BB0F-41DD-A25F-FAD4AACC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374EA-1741-4B4F-97FB-4A7CA699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822EC-E4AA-4CD5-B797-52A5CE43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6787A-E902-43E6-A104-FB732736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8B361-9F6C-4266-8765-485B1942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31765-FBD6-4672-948F-1E06318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4FFBD-30CE-4DB0-B32E-742CF02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8B6C-7C42-415C-92DA-2D5E6FD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51D30-AA5D-40D5-AEA0-5A401B0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87C92-2060-401F-990A-A724C6A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C6F0D-89EF-4080-B411-E17ABAD5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C54E5-602C-4A18-897D-208FF3D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7B202-5B53-45D5-80F1-1AD6758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9E6AA-10D9-4DF8-8C21-B0E4A0E0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2E7B0-7B72-43DB-A945-9F165227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F2799-3FEF-4B8E-A0BB-E801FECD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A6634-B08F-4EE4-8B13-CEC9C150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864F1-0C71-429C-AE5F-C8477F50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1A0-3318-4F04-9A78-A9D99FA3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A4145-DC44-4398-B005-CA19250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8AE8D-D7A4-4556-88F3-5734CE76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BD19B-D177-4C08-9F18-4EFD4CA1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6D1B2-66EA-480C-9FF8-E606704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1736D-4357-4BEB-B84F-03D900B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BDBC4-F3E0-44D0-8F4F-271D5665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A08B0-FC95-4A69-BF67-A2AC604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31F25-EFB8-4053-A163-04FCF33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59563-048B-443A-A9F7-A80ADC84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8F9D8-B756-40E3-BD8A-C4A18FEF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DCAB-7C8A-4825-836F-3A8CC44E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F010E-E396-4FAC-B8FC-008CB4F6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B4457-5A6A-41FC-B313-AFAE00A1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8CD9F-DA27-4F01-9048-DB4FFFF5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ED5A0-32AD-4426-A731-E62B8F21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CB3E3-157C-418F-B51F-60A39AF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10FB7-ADC1-4B32-97D2-4EED299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4AE46-B787-493A-9170-BC2ACEB8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CC34C-8BE8-437F-A8CA-E8B030F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38CF9-0514-461A-A00F-23F7E254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C5538-49AC-4FBB-9A50-BB5666C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2C3-EAC8-4164-BCFC-98467B5C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1CA41-BC5C-492A-A4AC-290016F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E6187-8DE1-45C6-9E23-B37DFF5E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97777-3424-4126-9BB3-14D1A5F8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790C5-DE4F-4706-AB7F-EC28925D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5CC0D-8AD1-4EB4-9FC7-D72BAED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5C340-BE64-4F83-A188-D345D24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8C12A-9B44-497D-A5A2-4D7AF1A4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F40FE-841E-4888-B278-0920369D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A42C8-6F93-4581-B918-8DB0E6E3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161D2-C9E3-4333-83A5-132A249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142-ABF5-4545-9799-7D27112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6FA-423D-46DE-A4A4-92EE015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2C2D1-C5E9-4168-88CF-A052310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D5B95-D8D2-410A-97B3-B8A1E4C7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024E2B-EB82-496A-AE2E-C5F3BB43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C45AD-E4EC-4F9F-86FA-FF2EDE08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84B44-2025-4C45-AA7D-02D21687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A0EE5-0874-4C00-918A-E6F297B4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95247-9097-4018-930F-AA228615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86E90-DDA2-4BB1-AA14-B6437B12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6A2E4-9F62-4023-A5D4-6051BD87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F6DFF4-B777-4DE1-B9CA-F945513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1FD4-E8BA-46E1-867A-B9CDD87D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50B69-F1F5-43EE-A598-2FAD54C5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45D3A-F72F-40AF-B3B7-DE121A2D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76D3C-16DA-450B-91EF-E628381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A1162-4640-4F6C-AAEF-F1C43D9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8D378-BE25-4E9B-8B65-DE7F820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8F5BA-7C22-4078-AFA4-A7F79CFA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B77E7-3E4C-401B-B1B0-463E59B7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818BF-2F11-438E-A37F-F8602E7F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53174-E990-4915-8074-B7427889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B9378-5834-4EE3-A5E3-24357A93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CC38-5303-4A97-ADCB-0C0687A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4A91E-4F56-4C2E-AF15-2664004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7C31A-DAA9-404D-AD16-634749C1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31148-D7F5-48D5-AD5C-6628C43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3E866-D179-4C5E-AB2E-5532EB3B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ADBF9-0AD8-4BF1-9DCD-D6C1C7E0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B69773-63C9-45AB-8474-A6FAA04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D08370-49AD-4666-A459-67F58A70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B29D5-7706-40D3-A72F-0E23BEB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3655C-2CD5-45F3-AE6C-6B415A38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11B23-1254-4081-AB8C-38E82E8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3D9D-A28D-4B1B-A9DF-D2D9265C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FE880-8D69-4A35-A522-749431A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4601E-3B10-47FD-9EE5-1237DF9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696E0-C5FD-44B2-BEC2-2302116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EE703-79D3-4E3A-A9D6-57AF8409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F6DC7-2888-4D5A-9507-934B5A13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8A3A9-95AD-41EF-B05A-0BD9197D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82D12-B88F-4287-9AF3-7486CC2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B9297-E54E-4374-B6F9-F001331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AB418-CBD6-4579-9F93-F9D795A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F1FB9-4C60-45CF-8AAD-421E1916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B4F5-0D38-440E-8798-B630F973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F47DC-F09E-456A-8918-1E9D1962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5D2AE-3BF1-4A4B-BE73-90BB9EC5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B2118-CA5D-4E43-BF5F-D335FA43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BF2FE6-D73C-40B6-A181-017869F2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911D1-FD27-4967-AFC4-39B1A416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82E51-89F8-4C36-A27B-66424FE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FF9EF-0D10-4DCF-8BF9-F54F428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0CF85-5C8E-44B8-9789-0E4296F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C1506-E39C-471F-A295-9035ADF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AE192-21A5-4B2A-97E7-234DC52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0249-6D35-4597-891E-6903F51E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49861-C827-4118-A92F-EA1BCDB1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C54A7-B252-4886-A2E3-87007F63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EEB0D-DDF3-4DA2-8FE6-C5621B8C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6143-39B0-4EBE-95BB-F51FB12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D41D-411F-4D31-BC95-16AE9D4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F44E-6942-4091-960F-421980F4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2E54-A1BB-41A1-8777-E40E9150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B45-C5E0-4457-A845-71F34DF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C2BF-0CB7-4D2B-97D5-292D611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DD3E-7188-42AA-A0A5-767B00E8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C286-072A-4CD7-BFA7-00F4BD0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C5AC-8B28-47AC-81F1-0D81F68A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885F-8C9C-4BEC-9FC8-628218F6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1A26-9B88-4556-814D-6D283A8A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0C0C-57D6-4A92-80AB-4767AE60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2A22-B1B5-44F1-BA44-4AD028A3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E647-3614-4F3C-92B8-A7238DA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9907-AB94-4F40-A138-4BCCA249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CF8-B683-4DF1-A0DC-2D65EE60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97B5-55FC-4B7B-B21C-D6BD065F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03D2-545B-40C9-B762-4CCDBBB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49A8-F8B3-4082-99C3-787F55B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29E0-EF17-47BE-B2F3-D9D109DB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4F9C-0E84-4FE7-A384-04100EE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26B0-070C-4C58-B015-E498F85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8C4B-CD2B-4755-995D-A8332AD1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06AA-B67B-4FFB-804D-E64C2DEC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66551-FCCF-4B2C-9752-8A8E7B55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4C43D-DCF4-4323-9EF7-9A51CA54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C97-90E1-4739-B5A5-F7FE7B2D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9FABC-F711-4561-92F3-DBD22E5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3B83-D94F-4929-9E5D-A787E008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4969-A0E6-4097-94EB-5D40739A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7234-7594-4200-BAA5-09A6FF1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F64C-2C60-4D1B-8898-2961B88C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A9A0-6D17-4960-8DFA-3BFEF70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E3CC-CCF0-4FA0-AC65-9711041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9300F-4622-4A7E-89F1-DF06C74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CCD6-43BB-4387-99E3-35ED1ABD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F2F9-BBDC-414C-9BE6-5C60F3C1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8BC-A5EB-451C-8C5D-892AF775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612EA-D93F-4D94-B9DE-7C1A0222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ADC2-C9D8-4BB1-9885-19146D2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76AF-D497-431F-B56D-660EA3BF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2F86-6A61-4531-922E-D16B44E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B1F5-7F94-4470-854C-ABB1E01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A94C-58F4-41AB-88A6-9B6E2407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DA58-82B5-45EB-A8DA-81259760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51E3-3165-4D9D-B7D0-064823E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9212-F60C-460F-B475-E524AE5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49E9-3641-48C2-AC86-22DBDD5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785-8C4D-4237-A766-EFD9557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D0CE-5489-4C97-A6AC-370A706E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4D0B-1B86-4305-B561-7219F4F4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C9B9-6F92-46EA-9CA7-02ACB4D1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9D8B2-C57E-4402-A712-9488FCFE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D42A3-520A-4C5D-91A1-04EEB63E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D1FAA-1063-4949-8BDC-7994A35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CCD49-7C62-4C96-9788-AFA6E9B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F27A-A1DE-495B-BDBA-5EABBEA0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CA54-B98D-4A59-BFFB-89971F8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247E-8961-4694-A8C3-EC48744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524-5E2A-46CA-83D9-D8A32AA9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A4FA4-8530-4A06-9B06-CCD3E9F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2F93-B8E9-4BEA-B9D4-CB28A1C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C49C-7907-4C75-95D0-5D3A1A3E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4E22-E42B-44D9-BBE0-296527C8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22407-8897-4D95-AE36-CE9A78FA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6DCD-5E0B-4EE3-BCF9-7F6C9D4F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D7E0-092A-47C0-9D90-6E9D67B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A7268-0BE7-4DB9-BFE9-E4C5900F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56AD2-354A-4917-874D-29282F0D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B964F-7C28-4C90-8910-F94F9BB0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82A-A333-4A47-AB7F-63A8239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1FFA-AE24-4FC1-97C6-2423676A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24E7-6898-4167-9E5D-EBED0DE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425D-4194-4F42-B26D-9E8DB04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210F8-5863-4B4B-AC68-B2DEA9B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89B37-CFE1-422E-9277-EBF4C952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BB1E-54CE-4BAF-BC44-89D04C76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B3A4-722D-4785-9F3D-80C49567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BBE4-C1F1-4CDE-8287-0651A924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86046-6F95-47A7-B863-DEF9C086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3A2DB-C299-4097-90C2-103BA57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4C8-BA5A-4226-B661-F454EE43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956-F8DE-4FAC-97B5-0F28BAC8F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B01-9C13-4F24-8FA8-F11DA044E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0DFC-DB0F-484E-8FB4-14E98666C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C2F-DF35-489E-AC48-187CC30399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15D0-4827-44A0-8E32-2ED7AB502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3FF3-0EF3-4B10-945A-2506E376CD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E75D-AB4B-4B09-BB9E-3096D84F6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A62-1A15-41C0-8961-91D3A4C26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7EE-5F10-43D1-A688-4C5696981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BC66-8D89-4FE9-AA9C-39A5D763B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FA0-91A1-4A7D-B15C-74D670CCF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7874-415A-4FD0-B161-CA495F39B8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378-D4D3-43B0-BE63-6076B0A15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7133-FC51-4F83-BC79-7FD4A77EA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0CF-D9A6-4BB6-BD53-01CA6E3E2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4559-3C37-4AD9-94C9-6D9FF1AD6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DA40-4ADB-45E8-9422-251F24D87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BA2F-80A4-4730-AF1C-2F6906FBE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236-878D-4AE9-98AD-82B473A87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DAAB-88C4-4086-BFD7-A9F32877E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4F15-846F-4C52-9059-93C1662926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EA76-3C9D-44F0-BBF0-B50BB4353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7B43-6998-4BBB-94D0-C58F3D5D3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2C4A-9BEF-4BB7-8110-0651C48E1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8A5-DB09-4094-A20E-43B0E5673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0D1-9466-4BBE-BCA6-FACF9DE6E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F058-3D7A-42B9-8A37-A2BDD7C8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301-31FE-47E7-A0D0-56E2A6E25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90F-0C4D-4C38-953F-72B2E6B0D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C06C-F5FB-484E-BE42-3FEB876D8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DCF0-099F-4FC3-A972-8E265B0BC8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81A9-802D-41FA-8A74-549190ADD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E73-635D-42F7-8C05-884A10CBCF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C655-38FD-47C4-89EB-DEF117FD8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6023-F87C-4A12-A9E4-ABB7D0933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3CA-9DE9-432B-93FA-2BE67253E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D07-E712-417D-B64E-907F6764E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666-A847-48AE-A5DD-F6FEF8C7F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0DF-0D40-4F50-B3C2-89CD2F804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43160" y="3110040"/>
            <a:ext cx="46576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80960" y="738360"/>
            <a:ext cx="8182080" cy="53812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2071800" y="1714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2049480" y="36496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928880" y="4643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514440" y="923760"/>
            <a:ext cx="811512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52520" y="995400"/>
            <a:ext cx="8238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61880" y="1452600"/>
            <a:ext cx="8220240" cy="39528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857160" y="1428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19288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857160" y="29289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857160" y="3500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"/>
          <p:cNvSpPr/>
          <p:nvPr/>
        </p:nvSpPr>
        <p:spPr>
          <a:xfrm>
            <a:off x="857160" y="4000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7"/>
          <p:cNvSpPr/>
          <p:nvPr/>
        </p:nvSpPr>
        <p:spPr>
          <a:xfrm>
            <a:off x="857160" y="49291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9760" y="1695600"/>
            <a:ext cx="8124480" cy="34668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928800" y="1714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928800" y="271476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928800" y="36432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928800" y="47149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76280" y="990720"/>
            <a:ext cx="8191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57200" y="857160"/>
            <a:ext cx="8229600" cy="514368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928800" y="34290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80960" y="1200240"/>
            <a:ext cx="8182080" cy="44575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857160" y="13572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857160" y="32860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542880" y="2181240"/>
            <a:ext cx="8058240" cy="249552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928800" y="221472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85640" y="1233360"/>
            <a:ext cx="8172720" cy="43912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5357880" y="31431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7000920" y="4643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3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